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2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592200" y="3105000"/>
            <a:ext cx="77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Организация делопроизводства по обращениям гражда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000"/>
                </a:solidFill>
                <a:latin typeface="Arial"/>
              </a:rPr>
              <a:t>Подготовка обращений к сдаче в архив включает в себя: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406600"/>
            <a:ext cx="822960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формление дел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ведение экспертизы ценности документов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ставление опис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Законодательные акты, регламентирующие работу с обращениями гражд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Характеристика технологии работы с обращениями гражд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Назовите основные задачи службы ДОУ по организации работы с обращениями гражд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узнецов И. Н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лопроизводств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учебно-справочное пособие / И. Н. Кузнецов. - 3-е изд., перераб. и доп. - М. : Дашков и К*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2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   Организация работы с документами. Учебник для вузов. Под ред. В.А. Кудряева. – М.,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  Федеральный закон «О порядке рассмотрения обращений граждан РФ» от 02 мая 2006 № 59-ФЗ // Собрание законодательства РФ. – 2006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7CD7-4006-4830-81B0-B0D81070392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DCB3-E055-4981-BCF0-CEBDEB61647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Обращение гражданина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114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правленные в государственный орган, орган местного самоуправления или должностному лицу письменные предложение, заявление или жалоба, а также устное обращение гражданина в государственный орган, орган местного самоуправ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Стрелка вниз 3"/>
          <p:cNvSpPr/>
          <p:nvPr/>
        </p:nvSpPr>
        <p:spPr>
          <a:xfrm>
            <a:off x="3878280" y="1311120"/>
            <a:ext cx="1606680" cy="584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Виды обращений граждан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544320"/>
            <a:ext cx="8229600" cy="63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едложе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рекомендация гражданина по совершенствованию законов и иных нормативных правовых актов, деятельности государственных органов и органов местного самоуправления, развитию общественных отношений, улучшению социально-экономической и иных сфер деятельности государства и обще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явле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просьба гражданина о содействии в реализации его конституционных прав и свобод или конституционных прав и свобод других лиц, либо сообщение о нарушении законов и иных нормативных правовых актов, недостатках в работе государственных органов, органов местного самоуправления и должностных лиц, либо критика деятельности указанных органов и должностных лиц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алоб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просьба гражданина о восстановлении или защите его нарушенных прав, свобод или законных интересов либо прав, свобод или законных интересов других лиц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одатайство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письменное обращение гражданина с просьбой о признании за ним определенного статуса, прав, гарантий и льгот с предоставлением документов, их подтверждающи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ллективные обращения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бращения двух или более граждан в письменном виде, содержащее частный интерес, либо обращение, принятое на митинге, собрании и подписанное организаторами и участниками собрания, имеющего общественный характе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тиции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— коллективные обращения граждан в органы власти города о необходимости проведения общественных реформ или частичного изменения городского законодатель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Работа с обращениями граждан и ее законодательное регулирование прошли эволюционный путь становления и развития  делопроизводств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6812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I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в. – период складывания русского централизованного государства. Вместе с созданием государственных учреждений появились письменные обращения в них частных л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в. –  документы этого вида получили название «челобитная». Они поступали в приказы и приказные избы от служилых людей, крестья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I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 – челобитные не изменили своего названия, но существенно изменилась форма их напис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02 г. просительские документы составлялись в виде прошений, жалоб, отзыв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законодательное регулирование  после 1917 г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2720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волюция 1917 г. уничтожила такие документы, как прошение, рескрипт, донос. Появляются новые документы, такие, как декрет, заявление. Заявление в корне меняет смысл обращения, оно выражает право «заявлять», а не «покорнейше просить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ановление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Всероссийского Чрезвычайного съезда Советов «О точном соблюдении законов» от 8 ноября 1918, провозгласившее право каждого гражданина обжаловать действия любого должностного лица, волокиту или иные ущемления их законных требовани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мае 1919 г. Наркоматом государственного контроля было издано два постановления («О центральном Бюро жалоб и заявлений при НК РКИ и «О местных отделениях Центрального Бюро жалоб и заявлений»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крет СНК РСФСР «Об устранении волокиты» от 30 декабря 1919 г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ановления ВЦИК СССР и РСФСР «О рассмотрении жалоб трудящихся и принятии по ним необходимых мер» от 13 апреля 1933 г., «Об упорядочении дела рассмотрения и разрешения жалоб» от 1 июля 1934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968 г. Указ высшего законодательного органа Президиума Верховного Совета СССР «О порядке рассмотрения предложений, заявлений и жалоб граждан». ( с изм. 04.03.1980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3 октября 1981г. Постановление «О порядке ведения делопроизводства по предложениям, заявлениям и жалобам граждан в государственных органах, на предприятиях, в учреждениях и организациях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коны «О порядке обжалования в суд не правомерных действий должностных лиц, ущемляющих права граждан» от 30 июня 1987 г., а также «Об обжаловании в суд действий и решений, нарушающие права и свободы граждан» от 24 апреля 1993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З «О порядке рассмотрения обращений граждан Российской Федерации» от 02.05.2006 № 59-ФЗ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Технология работы с обращениями граждан требует организации: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3804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ема гражда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ема и первичной обработки письменных обращ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гистрации обращ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правления обращений на рассмотр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едомления заявителя о направлении обращения в другие учрежд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едомления заявителя о длительном расследовании обращ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троля сроков исполнения документов и выполнением принятых по ним реш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о-справочной работы по обращения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вещения заявителя о вынесенных решениях с одновременным, в случае необходимости, направлением решений для исполнения в соответствующие орган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уппировки в дела и текущего хранения обращ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за поступивших обращ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Повторным считается обращение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упившее от одного и того же лица по одному и тому же вопросу, если со времени подачи первого предложения (заявления, жалобы) истек установленный законодательством срок их рассмотрения или заявитель не был удовлетворен ответом, сделанным по первому обраще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Сроки исполнения обращений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42056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тановлен в качестве максимального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месячный срок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ешения жалоб, заявлений и предложений во всех органа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явления и жалобы, не требующие дополнительного изучения и проверки, разрешаются безотлагательно, но не позднее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15 дне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о дня поступл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ех случаях, когда для принятия решений по жалобе или заявлению необходимо проведение специальной проверки и истребования дополнительных материалов, разрешено в порядке исключения продлить срок подготовки ответа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не более чем на один месяц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сообщив об этом лицу, подавшему заявление или жалоб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разрешения заявлений и жалоб военнослужащих и членов их семей были установлены более короткие срок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 центральных органах власти и управления - до 15 дн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 местных органах власти, на предприятиях и в учреждениях - безотлагательно, но не позднее. 7 дн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1:36:04Z</dcterms:modified>
  <cp:revision>137</cp:revision>
  <dc:subject/>
  <dc:title>Lecture Template </dc:title>
</cp:coreProperties>
</file>